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4A55-1153-4903-B171-64E39AAC3E95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7" name="Ram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DesignData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173" name="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254" name="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9" name="EX2-a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1" name="EX2-moments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3" name="EX2-dis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5" name="EX2-grph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6Z</dcterms:modified>
  <cp:revision>10</cp:revision>
  <dc:subject/>
  <dc:title>CIS/2 Implementation Workshop III,  3-7 April 2000, Ascot</dc:title>
</cp:coreProperties>
</file>